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55C-D78E-4DE6-839F-91A0E9E4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4F8-A677-475F-9667-A905A38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334-226A-4DDA-933F-D611929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24C-58E4-4289-9D1A-C10D061F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77AD-943D-44BE-B1EC-E8E49F76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1DE-67ED-4B84-A16D-6AA209E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622E-0868-4A68-88C3-F230A45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0DCF-CCFD-483F-8B58-E4FB27C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512-59FF-4AAE-8086-5DD1136D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E90-0FA1-48E5-834E-CA73595E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24C-519E-4571-BE56-F960892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634-53E0-463C-B63B-7476B63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0F2-137B-4863-AEC7-3B23D601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76CE-A73D-4D19-B429-573D673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E05-E409-43A6-B2BF-9E70D70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8A0-ED4C-406F-96D2-131EE21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E71-728A-46F8-B3D7-B8778D93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6E9-4DEE-40A5-9EF3-78E86058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29D-BA82-488E-9424-7E305AE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2C9-56DC-4DDA-B67B-B76B4C9E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C48-43AC-4E85-A0EB-7BD58391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8E2-5257-4F4D-A493-2BCF544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17C-07BE-432E-BB71-1C81B77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0A5-E187-47D5-813C-90908222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1AA2-08E9-426D-B324-FFD9B34F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2A89-9935-4EBD-B9C6-90F131C6DA15}" type="slidenum">
              <a: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877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رسَلَ الل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سعةَ أشهرٍ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ملتْ مر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حامِلِ الأكو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م تَحُسَّ منهُ بثقلٍ لأنه إلهٌ وإنس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171360"/>
            <a:ext cx="5796000" cy="66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زادَها طُهراً ومكثت بتولاً تُدهِشُ الأذهان قبلَ الميلاد وفيهِ وبعدَه وما دامَ الزم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1125360"/>
            <a:ext cx="68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ن القبر شبهَ ضوء لاح لأنهُ اللطيف ذاتاً والبتول أشرف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صب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054160" y="47520"/>
            <a:ext cx="9765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Arial"/>
                <a:cs typeface="Akhbar MT"/>
              </a:rPr>
              <a:t>قد بَزَغَ منها كما خرج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ا بالأوجاع ولا حضو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وابل بل بالأفراح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د وضعَته في نصف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الليل والظلامُ انتزح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ال الحلول تصوَّر كاملاً وجسمُهُ ما ب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تحداً بالنف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دُهنٍ الف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سيحاً انمس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لحلولِ والخروج وسُكناه بأُمِهِ عجيباً اتض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لطبعُ ابتعد وبا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علُ الروح كم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فراح أوض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رسل الله ابنَهُ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نوراً للأُمَم واحتَجَب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شى مريمَ البتول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نها تجسّ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مجّدك يا مَن ظَهَرَ بأُم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إنساناً يدوم باتحادِ طَبعَينِ ومشيئت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45000"/>
            <a:ext cx="9144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ي وَحدَةِ الأقن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كَ ولوالدِكَ وللروح القد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5594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كرٌ محت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45000"/>
            <a:ext cx="9144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ثلاثةُ أقانيم إلهٌ واحد ليس بمقس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شرقَ نجمُهُ في حدودِ فارس كما قالَ بَلع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نارَ المَجُوس فحملوا إليهِ هدايا الإكر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جيباً قويّاً دعاهُ أشَعيا وعنهُ ترنَّ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أنه يحمِل على مَنكِبَيهِ سُلطانَه الع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قد كانَ كلمة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بل رعدَ أصوات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شبلَ لَيثٍ أعظ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3080" y="393840"/>
            <a:ext cx="8439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أضحى ساكت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حَمَلاً وديع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ي بطنِ مَريم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لَجَها غنيّاً مجيداً مهيباً قديراً ديّان واتّلَدَ منه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قيراً حق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ُتَّضِعاً مُه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هَبُ قُربَهُ ملائكةُ السما وعندنا قد بان ود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ليماً سهل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لتقا لبن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نس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55:24Z</dcterms:created>
  <dc:creator>Charbel Azar</dc:creator>
  <dc:description/>
  <dc:language>en-US</dc:language>
  <cp:lastModifiedBy>Charbel Azar</cp:lastModifiedBy>
  <dcterms:modified xsi:type="dcterms:W3CDTF">2002-12-16T11:07:39Z</dcterms:modified>
  <cp:revision>7</cp:revision>
  <dc:subject/>
  <dc:title>Slide 1</dc:title>
</cp:coreProperties>
</file>